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64E-2F64-4A68-8D1F-E799AC0A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E3D-092E-4C5F-8BB9-41B9F15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716-B257-4974-8FF9-F9D081E5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F56-F4D6-4062-B67A-10D7AC6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D00-BF05-4D40-9D2A-271C68F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14B-29AB-4C04-A6A8-6475AA3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8A9-80EB-45A8-8B6A-C1EDC8F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D7C-8E93-4C43-B7D6-43E90B7E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993-CC3A-41B6-844E-F02976B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ED5-3BCC-452F-A474-6C5A03A2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6EA-322D-4A35-8E2E-AF6A03DE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89A-14AF-46D5-B910-FA379DB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E2C-3475-45EA-B9DC-15D2807B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19T20:14:24Z</dcterms:modified>
  <cp:revision>18</cp:revision>
  <dc:subject/>
  <dc:title>Folie 1</dc:title>
</cp:coreProperties>
</file>